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B0BEB-9164-408A-8E1D-D98D9FEF9A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16097-014E-47D1-8247-CB457D7EE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9A252-BA08-4105-8302-6EFA58CE6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F0224-F84A-446E-82C6-DE684E2B43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AE96B0-0D79-4F81-B57F-BF7FD0C72E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1D513-2278-4E8C-B739-B8522B54E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90FD6-083A-4A42-9BCB-D3A588DB37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F8EAE-8A5F-4989-AE80-2573D9A22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2C88F6-8B81-457B-BC1D-6161F11672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BA83DA-AD97-4278-B013-428A069F38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0F15F3-CD68-40BF-B069-FCF79CC40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C9B6D-6135-40F7-8596-70B08456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F3FD9-DCEF-4DC8-8298-AF20C1059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9B94F-D1B7-4BD8-BDFF-AD4323F3D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60FDB-76E8-4522-8290-9A0D65DE5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0A559-AB15-4C1D-B9CD-8CED114E8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4D0EB6-1971-43C2-8F5B-E077F4FB85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3AAE3-5E61-41A5-BE23-40C20FA4DE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F9BD-19B3-4DE4-A85C-672A422127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D718F-A799-4529-B91D-F6AEA603D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12521-ABB7-4599-BAC6-38A7F3AACE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B2337-1FCF-4069-A4D9-ACC06128E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AD302-BBD8-49F2-A002-322266FC4E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1350A-EB65-488E-A361-55CD6B2A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E651B-EAC2-415E-916B-8A1DEE062B2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8953F2-033D-4A8C-8EF9-1F7F1FBED15F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2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rotocols and Architecture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ation (Fragmentation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676520"/>
            <a:ext cx="8178840" cy="417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locks are of bounded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 messages may be lar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ckets may be small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litting larger blocks into smaller ones is segmentation (or fragmentation in TCP/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 blocks (cells) are 53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thernet blocks (frames) are up to 1526 octe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points and restart/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Fragment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fficient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equitable access to network faci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er delay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er buffers nee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he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ased interrupts at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processing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connection interruption and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numbers used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Data Transf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rcRect l="0" t="0" r="-385" b="21783"/>
          <a:stretch/>
        </p:blipFill>
        <p:spPr>
          <a:xfrm>
            <a:off x="838080" y="1752480"/>
            <a:ext cx="7239240" cy="497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traverse different paths throug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DU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tially number PDUs to allow for orde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e by receiving ent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amount or rate of data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op and wa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liding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ed at application as well as network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uard against loss or dam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inserts error detecting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checks these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K, ac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error, discard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nowledge in given time, re-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ed at various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sco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dentifi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lev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vel in architecture at which entity is nam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que address for each end system (computer) and 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evel address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or internet address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rvice access point or N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cess within th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rt number (TCP/I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ice access point or SAP (OSI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 Concep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rcRect l="0" t="0" r="0" b="7467"/>
          <a:stretch/>
        </p:blipFill>
        <p:spPr>
          <a:xfrm>
            <a:off x="1295280" y="1752480"/>
            <a:ext cx="6400800" cy="472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haracteristi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or 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nolithic or structu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 or 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or nonstand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Scop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nonambigu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lobal address identifies unique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re is only one system with address 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lobal applic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 is possible at any system (any address) to identify any other system (address) by  the global address of the other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X identifies that system from anywhere on th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MAC address on IEEE 802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Identifi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data transfer (virtual circuit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cate a connection name during the transfer ph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duced overhead as connection identifiers are shorter than global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may be fixed and identified by connection n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tities may want multiple connections - multiplex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e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 Mod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 an address refers to a singl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one machine or per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ll entities with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 machines or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ddress a subset of the entities in a dom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some machines or a group of us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ing multiple connections on one mach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ping of multiple connections at one level to a single connection at an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ing a number of connections on one fiber optic c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ing or bonding ISDN lines to gain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nsmission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control mess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acceptable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acceptabl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restri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- The Mod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yer mod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erforms a subset of the required communication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relies on the next lower layer to perform more primitive func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yer provides services to the next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ges in one layer should not require changes in other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e OSI Environ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1"/>
          <a:srcRect l="0" t="0" r="0" b="4576"/>
          <a:stretch/>
        </p:blipFill>
        <p:spPr>
          <a:xfrm>
            <a:off x="990720" y="1828800"/>
            <a:ext cx="6896160" cy="496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as Framework for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rcRect l="0" t="0" r="0" b="7484"/>
          <a:stretch/>
        </p:blipFill>
        <p:spPr>
          <a:xfrm>
            <a:off x="1195560" y="1771560"/>
            <a:ext cx="6752880" cy="44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yer Specific Standar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rcRect l="0" t="0" r="0" b="15461"/>
          <a:stretch/>
        </p:blipFill>
        <p:spPr>
          <a:xfrm>
            <a:off x="1523880" y="1752480"/>
            <a:ext cx="6305760" cy="411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lements of Standardiz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erates between the same layer on two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volve different operating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specification must be prec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mat of data uni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ntics of all fiel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able sequence of PCU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rvice defi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al description of what is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ferenced by S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rect or Indirec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point to point link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stems share a multi-point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pass without intervening active ag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ir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witched networks 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s or intern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ransfer depend on oth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 interface between de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chan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lectric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ction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dura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of activating, maintaining and deactivating a reliable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 and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may assume error free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of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ayers do not need to know about underlying technolog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needed on direct lin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change of data between end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fr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equ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uplic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SI Layer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rol of dialogues between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alogue discipli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s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formats and 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ompre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cryp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ns for applications to access OSI environ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a R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rcRect l="0" t="0" r="0" b="9967"/>
          <a:stretch/>
        </p:blipFill>
        <p:spPr>
          <a:xfrm>
            <a:off x="1143000" y="1447920"/>
            <a:ext cx="6800760" cy="46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minant commercial protocol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d and extensively used before OS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research funded US Department of Defe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pplication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rocesses o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to end or transport layer (TCP/UDP/…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to end transfer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include reliability mechanism (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des detail of underlying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Layer (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/IP Protocol Architecture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interface between end system and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ysical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rate and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DUs in TCP/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rcRect l="0" t="0" r="0" b="16221"/>
          <a:stretch/>
        </p:blipFill>
        <p:spPr>
          <a:xfrm>
            <a:off x="685800" y="1581120"/>
            <a:ext cx="7677000" cy="443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me Protocols in TCP/IP Sui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rcRect l="0" t="0" r="0" b="9268"/>
          <a:stretch/>
        </p:blipFill>
        <p:spPr>
          <a:xfrm>
            <a:off x="533520" y="1314360"/>
            <a:ext cx="8001000" cy="532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Internetworking with TCP/IP volum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D. and Stevens,D. Internetworking with TCP/IP volume II and volume III, Prentice 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alsall, F&gt; Data Communications, Computer Networks and Open Systems, Addison Wesle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nolithic or Structur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is a complex t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mplex for single un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uctured design breaks down problem into smaller un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yered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mmetric or Asymmetri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unication between peer ent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ent/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ndard or Nonstandar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standard protocols built for specific computers and tas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 sources and L receivers leads to K*L protocols and 2*K*L implement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mmon protocol used, K + L implementations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Standard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rcRect l="0" t="0" r="0" b="14550"/>
          <a:stretch/>
        </p:blipFill>
        <p:spPr>
          <a:xfrm>
            <a:off x="1066680" y="1752480"/>
            <a:ext cx="7086600" cy="419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ation and reassme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" descr=""/>
          <p:cNvPicPr/>
          <p:nvPr/>
        </p:nvPicPr>
        <p:blipFill>
          <a:blip r:embed="rId1"/>
          <a:srcRect l="0" t="0" r="0" b="22127"/>
          <a:stretch/>
        </p:blipFill>
        <p:spPr>
          <a:xfrm>
            <a:off x="2666880" y="3502080"/>
            <a:ext cx="6477120" cy="32875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aps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ition of control information t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inform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-detect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04T08:45:06Z</dcterms:created>
  <dc:creator>Adrian &amp; Wendy</dc:creator>
  <dc:description/>
  <dc:language>en-US</dc:language>
  <cp:lastModifiedBy>Adrian J Pullin</cp:lastModifiedBy>
  <dcterms:modified xsi:type="dcterms:W3CDTF">1999-10-13T14:41:03Z</dcterms:modified>
  <cp:revision>19</cp:revision>
  <dc:subject/>
  <dc:title>William Stallings Data and Computer Communication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BackColor">
    <vt:r8>15132390</vt:r8>
  </property>
  <property fmtid="{D5CDD505-2E9C-101B-9397-08002B2CF9AE}" pid="3" name="ButtonType">
    <vt:r8>3</vt:r8>
  </property>
  <property fmtid="{D5CDD505-2E9C-101B-9397-08002B2CF9AE}" pid="4" name="Compression">
    <vt:r8>100</vt:r8>
  </property>
  <property fmtid="{D5CDD505-2E9C-101B-9397-08002B2CF9AE}" pid="5" name="DownloadIEButton">
    <vt:bool>0</vt:bool>
  </property>
  <property fmtid="{D5CDD505-2E9C-101B-9397-08002B2CF9AE}" pid="6" name="DownloadOriginal">
    <vt:bool>1</vt:bool>
  </property>
  <property fmtid="{D5CDD505-2E9C-101B-9397-08002B2CF9AE}" pid="7" name="GraphicType">
    <vt:r8>1</vt:r8>
  </property>
  <property fmtid="{D5CDD505-2E9C-101B-9397-08002B2CF9AE}" pid="8" name="HomePage">
    <vt:lpwstr>http://www.newi.ac.uk/pullina/default.htm</vt:lpwstr>
  </property>
  <property fmtid="{D5CDD505-2E9C-101B-9397-08002B2CF9AE}" pid="9" name="LinkColor">
    <vt:r8>16711782</vt:r8>
  </property>
  <property fmtid="{D5CDD505-2E9C-101B-9397-08002B2CF9AE}" pid="10" name="MailAddress">
    <vt:lpwstr>a.j.pullin@newi.ac.uk</vt:lpwstr>
  </property>
  <property fmtid="{D5CDD505-2E9C-101B-9397-08002B2CF9AE}" pid="11" name="NavBtnPos">
    <vt:r8>3</vt:r8>
  </property>
  <property fmtid="{D5CDD505-2E9C-101B-9397-08002B2CF9AE}" pid="12" name="Other">
    <vt:lpwstr/>
  </property>
  <property fmtid="{D5CDD505-2E9C-101B-9397-08002B2CF9AE}" pid="13" name="OutputDir">
    <vt:lpwstr>H:\Data\Networks\Notes\HTML</vt:lpwstr>
  </property>
  <property fmtid="{D5CDD505-2E9C-101B-9397-08002B2CF9AE}" pid="14" name="ScreenSize">
    <vt:r8>2</vt:r8>
  </property>
  <property fmtid="{D5CDD505-2E9C-101B-9397-08002B2CF9AE}" pid="15" name="ScreenUsage">
    <vt:r8>1</vt:r8>
  </property>
  <property fmtid="{D5CDD505-2E9C-101B-9397-08002B2CF9AE}" pid="16" name="ShowNotes">
    <vt:bool>0</vt:bool>
  </property>
  <property fmtid="{D5CDD505-2E9C-101B-9397-08002B2CF9AE}" pid="17" name="TemplateType">
    <vt:r8>1</vt:r8>
  </property>
  <property fmtid="{D5CDD505-2E9C-101B-9397-08002B2CF9AE}" pid="18" name="TextColor">
    <vt:r8>0</vt:r8>
  </property>
  <property fmtid="{D5CDD505-2E9C-101B-9397-08002B2CF9AE}" pid="19" name="TransparentButton">
    <vt:r8>0</vt:r8>
  </property>
  <property fmtid="{D5CDD505-2E9C-101B-9397-08002B2CF9AE}" pid="20" name="UseBrowserColor">
    <vt:bool>1</vt:bool>
  </property>
  <property fmtid="{D5CDD505-2E9C-101B-9397-08002B2CF9AE}" pid="21" name="VisitedColor">
    <vt:r8>10040268</vt:r8>
  </property>
</Properties>
</file>